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268C-E342-4143-B976-2A453495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6737-373B-48F5-8AD5-752CCDEB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C3BC-B9FF-4520-98B9-F8620E19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89AA-E674-43DC-88E2-49A412F7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2A32-0720-42CC-95F9-ECB46C65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C2A0-BBF3-4174-89CB-0C1E5A5E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DAF2-0DF8-446E-8BB2-45D0152B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300B-E6C2-4D9D-AC37-C17A0A12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FF64-8EFE-446D-A0A4-FDE2F637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8EAF-FE8F-407D-9F16-E88ADE01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50FD-1D9D-41B6-A8D6-A289D89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4BC8-8CCD-4AE3-847B-13459F1D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1B0B-EA89-470B-86F7-02DD097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9C79-2466-4B0E-8C4A-AE0D6B1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2EC0-50EA-4AA8-90F6-2831C747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9DF0-5780-4124-8A9D-B5230AAA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8EFC-677B-46FE-AEA1-B59192FE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A096-DFBC-4E96-83B6-7C45FE88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CFA9-8C94-4401-BBBA-D39C05E0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B0CF-0D48-4289-8736-D0793838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9121-722E-4D59-8F45-90EDBB0E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9B47-4522-4AFF-B1CA-34582BDE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B4E9-54A9-4606-B598-53658B46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36EC-163B-4A2E-905D-A4EE5772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2121-E5FB-445D-B830-44322877AD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10A9-CDA3-4AFA-ACA8-E97601AB7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ZZ_Top" TargetMode="External"/><Relationship Id="rId2" Type="http://schemas.openxmlformats.org/officeDocument/2006/relationships/hyperlink" Target="http://en.wikipedia.org/wiki/Billy_Gibbons" TargetMode="External"/><Relationship Id="rId3" Type="http://schemas.openxmlformats.org/officeDocument/2006/relationships/hyperlink" Target="http://en.wikipedia.org/wiki/Dusty_Hill" TargetMode="External"/><Relationship Id="rId4" Type="http://schemas.openxmlformats.org/officeDocument/2006/relationships/hyperlink" Target="http://en.wikipedia.org/wiki/Frank_Beard_%28musician%29" TargetMode="External"/><Relationship Id="rId5" Type="http://schemas.openxmlformats.org/officeDocument/2006/relationships/hyperlink" Target="http://en.wikipedia.org/wiki/Niagara_Falls" TargetMode="External"/><Relationship Id="rId6" Type="http://schemas.openxmlformats.org/officeDocument/2006/relationships/hyperlink" Target="http://en.wikipedia.org/wiki/Arnold_Schwarzenegger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eefjack.com/files/2010/06/Ice-T-picture.jpg&amp;imgrefurl=http://beefjack.com/news/ice-t-puts-the-%25E2%2580%2598og%25E2%2580%2599-in-cog/&amp;usg=__i7vS0-f1KnBtnNyQtHNoCgtmqOc=&amp;h=1024&amp;w=788&amp;sz=139&amp;hl=en&amp;start=1&amp;um=1&amp;itbs=1&amp;tbnid=bZTXuKMcD0QXdM:&amp;tbnh=150&amp;tbnw=115&amp;prev=/images%3Fq%3Dice-t%26um%3D1%26hl%3Den%26safe%3Dactive%26sa%3DN%26rlz%3D1T4GGIH_enUS218US218%26tbs%3Disch:1" TargetMode="External"/><Relationship Id="rId2" Type="http://schemas.openxmlformats.org/officeDocument/2006/relationships/hyperlink" Target="http://www.google.com/imgres?imgurl=http://beefjack.com/files/2010/06/Ice-T-picture.jpg&amp;imgrefurl=http://beefjack.com/news/ice-t-puts-the-%25E2%2580%2598og%25E2%2580%2599-in-cog/&amp;usg=__i7vS0-f1KnBtnNyQtHNoCgtmqOc=&amp;h=1024&amp;w=788&amp;sz=139&amp;hl=en&amp;start=1&amp;um=1&amp;itbs=1&amp;tbnid=bZTXuKMcD0QXdM:&amp;tbnh=150&amp;tbnw=115&amp;prev=/images%3Fq%3Dice-t%26um%3D1%26hl%3Den%26safe%3Dactive%26sa%3DN%26rlz%3D1T4GGIH_enUS218US218%26tbs%3Disch:1" TargetMode="External"/><Relationship Id="rId3" Type="http://schemas.openxmlformats.org/officeDocument/2006/relationships/hyperlink" Target="http://www.google.com/imgres?imgurl=http://beefjack.com/files/2010/06/Ice-T-picture.jpg&amp;imgrefurl=http://beefjack.com/news/ice-t-puts-the-%25E2%2580%2598og%25E2%2580%2599-in-cog/&amp;usg=__i7vS0-f1KnBtnNyQtHNoCgtmqOc=&amp;h=1024&amp;w=788&amp;sz=139&amp;hl=en&amp;start=1&amp;um=1&amp;itbs=1&amp;tbnid=bZTXuKMcD0QXdM:&amp;tbnh=150&amp;tbnw=115&amp;prev=/images%3Fq%3Dice-t%26um%3D1%26hl%3Den%26safe%3Dactive%26sa%3DN%26rlz%3D1T4GGIH_enUS218US218%26tbs%3Disch:1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gl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t. 2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ron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erbal, Situational, and Dramatic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-152280" y="-295200"/>
            <a:ext cx="152280" cy="8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irony"/>
          <p:cNvPicPr/>
          <p:nvPr/>
        </p:nvPicPr>
        <p:blipFill>
          <a:blip r:embed="rId1"/>
          <a:stretch/>
        </p:blipFill>
        <p:spPr>
          <a:xfrm>
            <a:off x="533520" y="1576440"/>
            <a:ext cx="8076960" cy="4367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981080" y="60958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s. McCal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iterat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5715000" y="601992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http://1.bp.blogspot.com/_bj7klv9gHfE/SfspczmwobI/AAAAAAAABBA/Rs4JDg3tRmQ/s400/Irony.jp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rony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The general definition of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ntradiction between appearance and reality, between expectation and outcome, or between meaning and inten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ee different kinds of iron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tua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ama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l Iro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ccurs when someone says something that deliberately contradicts what that person actually mea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ositive connotations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My, you’ve certainly made a mess of things!” could be said to a hostess who presents a spectacular dish prepared with obvious care and skil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gative connotations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rcasm.  “Go ahead and keep sleeping during class, why don’t you?” could be said to a sleepy student even though the teacher clearly doesn’t want the student to keep sleeping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tuational Iro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ccurs when something happens that contradicts our expec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“The Gift of the Magi” s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ck tri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ZZ To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famously associated with the chest-length beards of guitaris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Billy Gibb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bassis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Dusty Hi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The group's drummer, who only has a mustache, happens to be named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Frank Bea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man jumps over a giant waterfall lik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Niagara Fall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 a barrel and survives, only to take a clean-up shower where he slips on the soap and dies from traum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Arnold Schwarzenegg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 actor famous for his violence in film, campaigning against violence in video games in general - which ironically includes those featuring his own character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anti-technology websit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tuational Irony cont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Rapper Ice-T, once famous for his “Cop Killer” album, now plays a cop on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Law &amp; Order: SVU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 fat personal traine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6">
            <a:hlinkClick r:id="rId1"/>
          </p:cNvPr>
          <p:cNvSpPr/>
          <p:nvPr/>
        </p:nvSpPr>
        <p:spPr>
          <a:xfrm>
            <a:off x="155520" y="46080"/>
            <a:ext cx="10954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8">
            <a:hlinkClick r:id="rId2"/>
          </p:cNvPr>
          <p:cNvSpPr/>
          <p:nvPr/>
        </p:nvSpPr>
        <p:spPr>
          <a:xfrm>
            <a:off x="155520" y="46080"/>
            <a:ext cx="10954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10">
            <a:hlinkClick r:id="rId3"/>
          </p:cNvPr>
          <p:cNvSpPr/>
          <p:nvPr/>
        </p:nvSpPr>
        <p:spPr>
          <a:xfrm>
            <a:off x="155520" y="46080"/>
            <a:ext cx="10954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4024440" y="2714760"/>
            <a:ext cx="10951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amatic Iro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when the reader or audience is aware of a contradiction that a character(s) does not kn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omeo and Juli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romeo-and-juliet"/>
          <p:cNvPicPr/>
          <p:nvPr/>
        </p:nvPicPr>
        <p:blipFill>
          <a:blip r:embed="rId1"/>
          <a:stretch/>
        </p:blipFill>
        <p:spPr>
          <a:xfrm>
            <a:off x="3429000" y="3886200"/>
            <a:ext cx="2514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ge 107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examples of irony for your no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 Act 3, do the assignment on the bottom of first pag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6:08:00Z</dcterms:created>
  <dc:creator>DCSS</dc:creator>
  <dc:description/>
  <dc:language>en-US</dc:language>
  <cp:lastModifiedBy>Angie McCall</cp:lastModifiedBy>
  <dcterms:modified xsi:type="dcterms:W3CDTF">2013-10-30T12:54:34Z</dcterms:modified>
  <cp:revision>14</cp:revision>
  <dc:subject/>
  <dc:title>Irony: Verbal, Situational, and Dramatic</dc:title>
</cp:coreProperties>
</file>